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7E1-01D4-4C1E-8C48-5C400DEB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326-4F6A-4732-8FA3-F568186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CD3-7BF1-431D-BFD2-185B6251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1CD-FCD7-4F14-A3DB-A9623E11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B7B-3BB3-4CCB-8F83-37E3507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776-E766-4B3D-B42B-646C576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B0D-578D-4B6E-938C-5C75B4C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FAF-C863-45F6-B39E-7629D03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C8D-0044-4F73-8F1A-B5ECB5E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244-5DD8-476E-AB06-DCE2E572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9E9-6C41-4EBD-91EA-1189884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E48-F99F-439E-80A1-F0B7B45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11DD-FD0F-46BF-AB05-6D98C8714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caruffi.com/politics/leaders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 2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Xander Bovi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Dis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ntions/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reation and Lei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y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caruffi.com/politics/leaders.html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8:55Z</dcterms:created>
  <dc:creator>Lionsgate</dc:creator>
  <dc:description/>
  <dc:language>en-US</dc:language>
  <cp:lastModifiedBy>bdougherty</cp:lastModifiedBy>
  <dcterms:modified xsi:type="dcterms:W3CDTF">2009-09-14T15:19:25Z</dcterms:modified>
  <cp:revision>8</cp:revision>
  <dc:subject/>
  <dc:title>Year 2000</dc:title>
</cp:coreProperties>
</file>